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4CC-3140-49D6-A9E6-55135D73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53D-102E-4519-B472-6D900FE6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032-80A8-4C9E-80EE-D4B2EFDE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A22-84EA-43D5-AE32-0FD58A89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29A-06AC-4835-A8A8-562C0F34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89F-C6A0-4588-858E-7A8A8880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637-E95F-4B46-9F62-1B18DD8A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B2F-8C97-42C5-BB81-C95AC069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FC3-D268-4503-BF60-7D31F054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195-C72D-4345-8437-41DC0BE8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A48-9FB7-4495-A21A-64F6D478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5AE-BD4D-47B8-AA20-BB1E0B64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1AFB-841A-4DB2-9DC4-6AC3459B0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7:25:11Z</dcterms:created>
  <dc:creator>Grupo Editorial</dc:creator>
  <dc:description/>
  <dc:language>en-US</dc:language>
  <cp:lastModifiedBy>Grupo Editorial</cp:lastModifiedBy>
  <dcterms:modified xsi:type="dcterms:W3CDTF">2001-11-15T17:27:36Z</dcterms:modified>
  <cp:revision>1</cp:revision>
  <dc:subject/>
  <dc:title>Sin título de diapositiva</dc:title>
</cp:coreProperties>
</file>